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8622-C8EE-4FDB-BCCD-BB2946F8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B02C-9782-4CBF-AF6D-C6FFABDC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0DFD-C27B-4B1D-9203-FFEC8E2C1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ACB7-C73F-401B-8130-161F1F859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40D8-07E4-42A2-9327-35AFB864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8B2C-2F46-41DF-868F-03B23491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3C3E-287E-4ECB-9B30-C656FE10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E1E7-A4F3-4D2A-AF93-69CBC21F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A177-F47E-4837-9550-195334A7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70ED-DD98-4601-A2D5-7C173426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232A-A308-4780-9EA0-89EC888C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7D00-5E9B-4CC1-89B7-37AE4356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B8BD-453E-4045-9625-629C829235E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S51413.WAV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S51414.WAV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S51415.WAV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S51412.WAV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568520" y="685800"/>
            <a:ext cx="544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ecca22"/>
                </a:solidFill>
                <a:latin typeface="Times New Roman"/>
              </a:rPr>
              <a:t>Wind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533520" y="1673280"/>
            <a:ext cx="761976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each slide carefully. Make sure pay attention to any diagram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33520" y="3527280"/>
            <a:ext cx="7619760" cy="11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the questions when finished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579600" y="398520"/>
            <a:ext cx="386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3563280" y="0"/>
            <a:ext cx="197136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Calibri"/>
              </a:rPr>
              <a:t>Air Mov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650600" y="685800"/>
            <a:ext cx="2902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Calibri"/>
              </a:rPr>
              <a:t>Surface Wind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33520" y="1676520"/>
            <a:ext cx="74674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etween 30º and 60º latitude, winds called the prevailing westerlies blow in the opposite direction from trade wind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24600" y="398520"/>
            <a:ext cx="296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563280" y="0"/>
            <a:ext cx="197136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Calibri"/>
              </a:rPr>
              <a:t>Air Mov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533520" y="3470400"/>
            <a:ext cx="7772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evailing westerlies are responsible for much of the movement of weather across North America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650600" y="685800"/>
            <a:ext cx="2902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Calibri"/>
              </a:rPr>
              <a:t>Surface Wind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33520" y="1698480"/>
            <a:ext cx="746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olar easterlies are found near the pole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24600" y="398520"/>
            <a:ext cx="296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563280" y="0"/>
            <a:ext cx="197136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Calibri"/>
              </a:rPr>
              <a:t>Air Mov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533520" y="2612880"/>
            <a:ext cx="7772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ear the north pole, easterlies blow from northeast to southwest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533520" y="3984480"/>
            <a:ext cx="7772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ear the south pole, polar easterlies blow from the southeast to the northwest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992600" y="685800"/>
            <a:ext cx="6590520" cy="13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Calibri"/>
              </a:rPr>
              <a:t>Winds in the Upper Troposphere/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Calibri"/>
              </a:rPr>
              <a:t>Lower Stratospher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5562720" y="2286000"/>
            <a:ext cx="30477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arrow belts of strong winds, called </a:t>
            </a:r>
            <a:r>
              <a:rPr b="1" lang="en-US" sz="2400" spc="-1" strike="noStrike">
                <a:solidFill>
                  <a:srgbClr val="ff3399"/>
                </a:solidFill>
                <a:latin typeface="Calibri"/>
              </a:rPr>
              <a:t>jet streams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, blow near the top of the troposphere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624600" y="398520"/>
            <a:ext cx="296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563280" y="0"/>
            <a:ext cx="197136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Calibri"/>
              </a:rPr>
              <a:t>Air Mov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581040" y="4648320"/>
            <a:ext cx="8334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polar jet stream forms at the boundary of cold, dry polar air to the north and warmer, more moist air to the south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Picture 9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40680" y="4052880"/>
            <a:ext cx="393840" cy="368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im58 polar jet stream"/>
          <p:cNvPicPr/>
          <p:nvPr/>
        </p:nvPicPr>
        <p:blipFill>
          <a:blip r:embed="rId3"/>
          <a:stretch/>
        </p:blipFill>
        <p:spPr>
          <a:xfrm>
            <a:off x="1143000" y="1905120"/>
            <a:ext cx="42242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702080" y="685800"/>
            <a:ext cx="63939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Calibri"/>
              </a:rPr>
              <a:t>Winds in the Upper Tropospher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533520" y="1698480"/>
            <a:ext cx="7619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jet stream moves faster in the winter because the difference between cold air and warm air is greater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24600" y="398520"/>
            <a:ext cx="296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563280" y="0"/>
            <a:ext cx="197136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Calibri"/>
              </a:rPr>
              <a:t>Air Mov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33520" y="3527280"/>
            <a:ext cx="7696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jet stream helps move storms across the country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687320" y="685800"/>
            <a:ext cx="3934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Calibri"/>
              </a:rPr>
              <a:t>Local Wind System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533520" y="1600200"/>
            <a:ext cx="7619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lobal wind systems determine the major weather patterns for the entire planet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624600" y="398520"/>
            <a:ext cx="296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563280" y="0"/>
            <a:ext cx="197136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Calibri"/>
              </a:rPr>
              <a:t>Air Mov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33520" y="2898720"/>
            <a:ext cx="7696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maller wind systems affect local weather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533520" y="3774960"/>
            <a:ext cx="7696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f you live near a large body of water, you’re familiar with two such wind systems—sea breezes and land breeze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681560" y="685800"/>
            <a:ext cx="4263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Calibri"/>
              </a:rPr>
              <a:t>Sea and Land Breez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533520" y="1247760"/>
            <a:ext cx="4267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s heated air is less dense and has lower pressur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624600" y="398520"/>
            <a:ext cx="296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563280" y="0"/>
            <a:ext cx="197136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Calibri"/>
              </a:rPr>
              <a:t>Air Mov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533520" y="2685960"/>
            <a:ext cx="4267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oler, denser air over the water has higher pressure and flows toward the warmer, less dense ai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533520" y="4971960"/>
            <a:ext cx="8153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 convection current results, and wind blows from the sea toward the land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0" name="Picture 12" descr="im61 daytime winds"/>
          <p:cNvPicPr/>
          <p:nvPr/>
        </p:nvPicPr>
        <p:blipFill>
          <a:blip r:embed="rId1"/>
          <a:stretch/>
        </p:blipFill>
        <p:spPr>
          <a:xfrm>
            <a:off x="4829040" y="1762200"/>
            <a:ext cx="385308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533520" y="1413000"/>
            <a:ext cx="38862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 </a:t>
            </a:r>
            <a:r>
              <a:rPr b="1" lang="en-US" sz="2400" spc="-1" strike="noStrike">
                <a:solidFill>
                  <a:srgbClr val="ff3399"/>
                </a:solidFill>
                <a:latin typeface="Calibri"/>
              </a:rPr>
              <a:t>sea breez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is created during the day because solar radiation warms the land more than the water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1681560" y="685800"/>
            <a:ext cx="4263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Calibri"/>
              </a:rPr>
              <a:t>Sea and Land Breez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24600" y="398520"/>
            <a:ext cx="296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563280" y="0"/>
            <a:ext cx="197136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Calibri"/>
              </a:rPr>
              <a:t>Air Mov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533520" y="4289400"/>
            <a:ext cx="4114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ir over the land is heated by conduction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6" name="Picture 9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0760" y="3700440"/>
            <a:ext cx="393840" cy="368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im61 daytime winds"/>
          <p:cNvPicPr/>
          <p:nvPr/>
        </p:nvPicPr>
        <p:blipFill>
          <a:blip r:embed="rId3"/>
          <a:stretch/>
        </p:blipFill>
        <p:spPr>
          <a:xfrm>
            <a:off x="4829040" y="1762200"/>
            <a:ext cx="385308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681560" y="685800"/>
            <a:ext cx="4263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Calibri"/>
              </a:rPr>
              <a:t>Sea and Land Breez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33520" y="1303200"/>
            <a:ext cx="32763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reverse occurs at night, when land cools much more rapidly than ocean water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624600" y="398520"/>
            <a:ext cx="296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3563280" y="0"/>
            <a:ext cx="197136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Calibri"/>
              </a:rPr>
              <a:t>Air Mov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533520" y="4022640"/>
            <a:ext cx="327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ir over the land becomes cooler than air over the ocean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3" name="Picture 10" descr="im63 night winds"/>
          <p:cNvPicPr/>
          <p:nvPr/>
        </p:nvPicPr>
        <p:blipFill>
          <a:blip r:embed="rId1"/>
          <a:stretch/>
        </p:blipFill>
        <p:spPr>
          <a:xfrm>
            <a:off x="3886200" y="1940040"/>
            <a:ext cx="4795920" cy="36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2"/>
          <p:cNvGrpSpPr/>
          <p:nvPr/>
        </p:nvGrpSpPr>
        <p:grpSpPr>
          <a:xfrm>
            <a:off x="533520" y="1374840"/>
            <a:ext cx="8229600" cy="1519200"/>
            <a:chOff x="533520" y="1374840"/>
            <a:chExt cx="8229600" cy="1519200"/>
          </a:xfrm>
        </p:grpSpPr>
        <p:sp>
          <p:nvSpPr>
            <p:cNvPr id="145" name="Text Box 3"/>
            <p:cNvSpPr/>
            <p:nvPr/>
          </p:nvSpPr>
          <p:spPr>
            <a:xfrm>
              <a:off x="533520" y="1374840"/>
              <a:ext cx="82296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buClr>
                  <a:srgbClr val="ffffff"/>
                </a:buClr>
                <a:buFont typeface="Calibri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Cooler, denser air above the land moves over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6" name="Text Box 11"/>
            <p:cNvSpPr/>
            <p:nvPr/>
          </p:nvSpPr>
          <p:spPr>
            <a:xfrm>
              <a:off x="914400" y="1812960"/>
              <a:ext cx="253044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the water, as the warm air over the water rises. 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7" name="Text Box 2"/>
          <p:cNvSpPr/>
          <p:nvPr/>
        </p:nvSpPr>
        <p:spPr>
          <a:xfrm>
            <a:off x="1681560" y="685800"/>
            <a:ext cx="4263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Calibri"/>
              </a:rPr>
              <a:t>Sea and Land Breez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624600" y="398520"/>
            <a:ext cx="296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563280" y="0"/>
            <a:ext cx="197136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Calibri"/>
              </a:rPr>
              <a:t>Air Mov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533520" y="3651120"/>
            <a:ext cx="33526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ovement of air toward the water from the land is called a </a:t>
            </a:r>
            <a:r>
              <a:rPr b="1" lang="en-US" sz="2400" spc="-1" strike="noStrike">
                <a:solidFill>
                  <a:srgbClr val="ff3399"/>
                </a:solidFill>
                <a:latin typeface="Calibri"/>
              </a:rPr>
              <a:t>land breez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Picture 8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73400" y="5500800"/>
            <a:ext cx="393480" cy="368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im63 night winds"/>
          <p:cNvPicPr/>
          <p:nvPr/>
        </p:nvPicPr>
        <p:blipFill>
          <a:blip r:embed="rId3"/>
          <a:stretch/>
        </p:blipFill>
        <p:spPr>
          <a:xfrm>
            <a:off x="3886200" y="1940040"/>
            <a:ext cx="4795920" cy="36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6"/>
          <p:cNvSpPr/>
          <p:nvPr/>
        </p:nvSpPr>
        <p:spPr>
          <a:xfrm>
            <a:off x="624600" y="398520"/>
            <a:ext cx="296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3502800" y="0"/>
            <a:ext cx="29286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cca22"/>
                </a:solidFill>
                <a:latin typeface="Calibri"/>
              </a:rPr>
              <a:t>Lesson Check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1769400" y="785880"/>
            <a:ext cx="27075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spcAft>
                <a:spcPts val="1100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cca22"/>
                </a:solidFill>
                <a:latin typeface="Calibri"/>
              </a:rPr>
              <a:t>Question 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93640" y="1676520"/>
            <a:ext cx="794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results from the Coriolis effec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1570320" y="685800"/>
            <a:ext cx="3088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Forming Win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533520" y="1673280"/>
            <a:ext cx="76197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th is mostly rock or land, with three-fourths of its surface covered by a relatively thin layer of water, the ocean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533520" y="3527280"/>
            <a:ext cx="7619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two areas strongly influence global wind system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579600" y="398520"/>
            <a:ext cx="386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563280" y="0"/>
            <a:ext cx="197136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Calibri"/>
              </a:rPr>
              <a:t>Air Mov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624600" y="398520"/>
            <a:ext cx="296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610800" y="0"/>
            <a:ext cx="19044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Calibri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769040" y="785880"/>
            <a:ext cx="26326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cca22"/>
                </a:solidFill>
                <a:latin typeface="Calibri"/>
              </a:rPr>
              <a:t>Question</a:t>
            </a:r>
            <a:r>
              <a:rPr b="1" lang="en-US" sz="3600" spc="-1" strike="noStrike">
                <a:solidFill>
                  <a:srgbClr val="ecca22"/>
                </a:solidFill>
                <a:latin typeface="Calibri"/>
              </a:rPr>
              <a:t> 2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93640" y="1494000"/>
            <a:ext cx="79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arrow belts of strong winds blowing near the top of the troposphere are __________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595440" y="3292560"/>
            <a:ext cx="7940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. arctic blas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. doldrum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. El Ni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ñ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. jet stream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624600" y="398520"/>
            <a:ext cx="296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610800" y="0"/>
            <a:ext cx="19044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Calibri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769040" y="785880"/>
            <a:ext cx="26326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cca22"/>
                </a:solidFill>
                <a:latin typeface="Calibri"/>
              </a:rPr>
              <a:t>Question</a:t>
            </a:r>
            <a:r>
              <a:rPr b="1" lang="en-US" sz="3600" spc="-1" strike="noStrike">
                <a:solidFill>
                  <a:srgbClr val="ecca22"/>
                </a:solidFill>
                <a:latin typeface="Calibri"/>
              </a:rPr>
              <a:t> 3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593640" y="1494000"/>
            <a:ext cx="794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ich of these is created during the day when solar radiation warms the land more than the water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609480" y="3368520"/>
            <a:ext cx="7940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. jet stre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. land breez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. polar stre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. sea breez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30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heck your answers!!!!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did you remember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624600" y="398520"/>
            <a:ext cx="296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3610800" y="0"/>
            <a:ext cx="19044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Calibri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776240" y="785880"/>
            <a:ext cx="4211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Calibri"/>
              </a:rPr>
              <a:t>Answer ---Question 1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93640" y="1494000"/>
            <a:ext cx="794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ving air turns to the right in the northern hemisphere and to the left in the southern hemisphere as a result of the Coriolis effect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2" name="Picture 6" descr="im52 corriolis effect"/>
          <p:cNvPicPr/>
          <p:nvPr/>
        </p:nvPicPr>
        <p:blipFill>
          <a:blip r:embed="rId1"/>
          <a:stretch/>
        </p:blipFill>
        <p:spPr>
          <a:xfrm>
            <a:off x="4343400" y="3276720"/>
            <a:ext cx="403848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624600" y="398520"/>
            <a:ext cx="296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610800" y="0"/>
            <a:ext cx="19044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Calibri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771200" y="609480"/>
            <a:ext cx="42818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Calibri"/>
              </a:rPr>
              <a:t>Answer</a:t>
            </a:r>
            <a:r>
              <a:rPr b="1" lang="en-US" sz="4000" spc="-1" strike="noStrike">
                <a:solidFill>
                  <a:srgbClr val="ecca22"/>
                </a:solidFill>
                <a:latin typeface="Calibri"/>
              </a:rPr>
              <a:t> –Question 2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593640" y="1494000"/>
            <a:ext cx="7940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answer is D. The jet stream moves faster in the winter because of the greater temperature difference  between cold and warm ai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624600" y="398520"/>
            <a:ext cx="296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3610800" y="0"/>
            <a:ext cx="19044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Calibri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776960" y="785880"/>
            <a:ext cx="4121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Calibri"/>
              </a:rPr>
              <a:t>Answer – Question 3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593640" y="1494000"/>
            <a:ext cx="816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answer is D. Cooler air over the water flows toward the warmer air on land, creating a sea breeze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" name="Picture 7" descr="im61 daytime winds"/>
          <p:cNvPicPr/>
          <p:nvPr/>
        </p:nvPicPr>
        <p:blipFill>
          <a:blip r:embed="rId1"/>
          <a:stretch/>
        </p:blipFill>
        <p:spPr>
          <a:xfrm>
            <a:off x="2324160" y="2743200"/>
            <a:ext cx="407664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680840" y="685800"/>
            <a:ext cx="28674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Calibri"/>
              </a:rPr>
              <a:t>Forming Win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533520" y="137160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even heating of Earth’s surface by the Sun causes some areas to be warmer than others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33520" y="2971800"/>
            <a:ext cx="80769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causes air pressure to be generally lower where air is heated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24600" y="398520"/>
            <a:ext cx="296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3563280" y="0"/>
            <a:ext cx="197136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Calibri"/>
              </a:rPr>
              <a:t>Air Mov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533520" y="4321080"/>
            <a:ext cx="7848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ind is the movement of air from an area of higher pressure to an area of lower pressure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638720" y="685800"/>
            <a:ext cx="2215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Calibri"/>
              </a:rPr>
              <a:t>Heated Air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33520" y="1278000"/>
            <a:ext cx="83818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reas of Earth receive different amounts of radiation from the Sun because Earth is curved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624600" y="398520"/>
            <a:ext cx="296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563280" y="0"/>
            <a:ext cx="197136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Calibri"/>
              </a:rPr>
              <a:t>Air Mov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10" descr="im50 sun's rays striking"/>
          <p:cNvPicPr/>
          <p:nvPr/>
        </p:nvPicPr>
        <p:blipFill>
          <a:blip r:embed="rId1"/>
          <a:stretch/>
        </p:blipFill>
        <p:spPr>
          <a:xfrm>
            <a:off x="3733920" y="2444760"/>
            <a:ext cx="4848120" cy="273672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12"/>
          <p:cNvGrpSpPr/>
          <p:nvPr/>
        </p:nvGrpSpPr>
        <p:grpSpPr>
          <a:xfrm>
            <a:off x="533520" y="2328840"/>
            <a:ext cx="2971800" cy="2779200"/>
            <a:chOff x="533520" y="2328840"/>
            <a:chExt cx="2971800" cy="2779200"/>
          </a:xfrm>
        </p:grpSpPr>
        <p:sp>
          <p:nvSpPr>
            <p:cNvPr id="63" name="Text Box 4"/>
            <p:cNvSpPr/>
            <p:nvPr/>
          </p:nvSpPr>
          <p:spPr>
            <a:xfrm>
              <a:off x="533520" y="2328840"/>
              <a:ext cx="2971800" cy="20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buClr>
                  <a:srgbClr val="ffffff"/>
                </a:buClr>
                <a:buFont typeface="Calibri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The heated air at the equator is less dense, so it is displaced by denser, colder air, creating convection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" name="Text Box 11"/>
            <p:cNvSpPr/>
            <p:nvPr/>
          </p:nvSpPr>
          <p:spPr>
            <a:xfrm>
              <a:off x="1033200" y="4648320"/>
              <a:ext cx="127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currents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638720" y="685800"/>
            <a:ext cx="2215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Calibri"/>
              </a:rPr>
              <a:t>Heated Air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533520" y="1676520"/>
            <a:ext cx="7696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s cold, denser air comes from the poles, which receive less radiation from the Sun, making air at the poles much coole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33520" y="3527280"/>
            <a:ext cx="7772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resulting dense, high-pressure air sinks and moves along Earth’s surface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24600" y="398520"/>
            <a:ext cx="296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563280" y="0"/>
            <a:ext cx="197136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Calibri"/>
              </a:rPr>
              <a:t>Air Mov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12"/>
          <p:cNvGrpSpPr/>
          <p:nvPr/>
        </p:nvGrpSpPr>
        <p:grpSpPr>
          <a:xfrm>
            <a:off x="533520" y="1251000"/>
            <a:ext cx="8305560" cy="2051640"/>
            <a:chOff x="533520" y="1251000"/>
            <a:chExt cx="8305560" cy="2051640"/>
          </a:xfrm>
        </p:grpSpPr>
        <p:sp>
          <p:nvSpPr>
            <p:cNvPr id="71" name="Text Box 3"/>
            <p:cNvSpPr/>
            <p:nvPr/>
          </p:nvSpPr>
          <p:spPr>
            <a:xfrm>
              <a:off x="533520" y="1251000"/>
              <a:ext cx="830556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spcAft>
                  <a:spcPts val="700"/>
                </a:spcAft>
                <a:buClr>
                  <a:srgbClr val="ffffff"/>
                </a:buClr>
                <a:buFont typeface="Calibri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The rotation of Earth causes moving air and water to appear to turn to the right north of</a:t>
              </a:r>
              <a:endParaRPr b="0" lang="en-US" sz="2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2" name="Text Box 11"/>
            <p:cNvSpPr/>
            <p:nvPr/>
          </p:nvSpPr>
          <p:spPr>
            <a:xfrm>
              <a:off x="838080" y="2057400"/>
              <a:ext cx="3030480" cy="12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the equator and to the left south of the equator. </a:t>
              </a:r>
              <a:endParaRPr b="0" lang="en-US" sz="2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73" name="Text Box 2"/>
          <p:cNvSpPr/>
          <p:nvPr/>
        </p:nvSpPr>
        <p:spPr>
          <a:xfrm>
            <a:off x="1721880" y="685800"/>
            <a:ext cx="3585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Calibri"/>
              </a:rPr>
              <a:t>The Coriolis Effec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533520" y="3641760"/>
            <a:ext cx="30477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s is called the </a:t>
            </a:r>
            <a:r>
              <a:rPr b="1" lang="en-US" sz="2400" spc="-1" strike="noStrike">
                <a:solidFill>
                  <a:srgbClr val="ff3399"/>
                </a:solidFill>
                <a:latin typeface="Calibri"/>
              </a:rPr>
              <a:t>Coriolis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(kohr ee OH lus) </a:t>
            </a:r>
            <a:r>
              <a:rPr b="1" lang="en-US" sz="2400" spc="-1" strike="noStrike">
                <a:solidFill>
                  <a:srgbClr val="ff3399"/>
                </a:solidFill>
                <a:latin typeface="Calibri"/>
              </a:rPr>
              <a:t>effect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624600" y="398520"/>
            <a:ext cx="296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3563280" y="0"/>
            <a:ext cx="197136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Calibri"/>
              </a:rPr>
              <a:t>Air Mov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Picture 8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06560" y="5043600"/>
            <a:ext cx="393840" cy="368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im52 corriolis effect"/>
          <p:cNvPicPr/>
          <p:nvPr/>
        </p:nvPicPr>
        <p:blipFill>
          <a:blip r:embed="rId3"/>
          <a:stretch/>
        </p:blipFill>
        <p:spPr>
          <a:xfrm>
            <a:off x="3809880" y="2438280"/>
            <a:ext cx="472464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721880" y="685800"/>
            <a:ext cx="3585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Calibri"/>
              </a:rPr>
              <a:t>The Coriolis Effec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533520" y="1679400"/>
            <a:ext cx="79246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flow of air caused by differences in the amount of solar radiation received on Earth’s surface and by the Coriolis effect creates distinct wind patterns on Earth’s surfac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624600" y="398520"/>
            <a:ext cx="296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563280" y="0"/>
            <a:ext cx="197136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Calibri"/>
              </a:rPr>
              <a:t>Air Mov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650600" y="685800"/>
            <a:ext cx="2902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Calibri"/>
              </a:rPr>
              <a:t>Surface Wind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533520" y="1676520"/>
            <a:ext cx="74674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ir descending to Earth’s surface near 30º north and south latitude creates steady winds that blow in tropical region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624600" y="398520"/>
            <a:ext cx="296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563280" y="0"/>
            <a:ext cx="197136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Calibri"/>
              </a:rPr>
              <a:t>Air Mov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33520" y="3470400"/>
            <a:ext cx="7772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se are called trade winds because early sailors used their dependability to establish trade route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653840" y="685800"/>
            <a:ext cx="2718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Calibri"/>
              </a:rPr>
              <a:t>Global Wind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533520" y="1447920"/>
            <a:ext cx="7467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arly sailors discovered that the wind patterns on Earth helped them navigate the oceans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624600" y="398520"/>
            <a:ext cx="296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563280" y="0"/>
            <a:ext cx="197136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Calibri"/>
              </a:rPr>
              <a:t>Air Mov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533520" y="284148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ometimes sailors found little or no wind to move their sailing ships near the equator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533520" y="3940200"/>
            <a:ext cx="7772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t also rained nearly every afternoon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533520" y="4594320"/>
            <a:ext cx="7772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Calibri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s windless, rainy zone near the equator is called the doldrums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20:34:31Z</dcterms:created>
  <dc:creator>pcsuser</dc:creator>
  <dc:description/>
  <dc:language>en-US</dc:language>
  <cp:lastModifiedBy>pcsuser</cp:lastModifiedBy>
  <dcterms:modified xsi:type="dcterms:W3CDTF">2011-05-12T20:51:52Z</dcterms:modified>
  <cp:revision>8</cp:revision>
  <dc:subject/>
  <dc:title>Slide 1</dc:title>
</cp:coreProperties>
</file>